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4D9-2C3A-4E1A-91A9-75DF8768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74C-BCAB-4C16-A030-C7E4AB3C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8BE-4866-40CB-BF8A-5DCD1374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53C-2350-4561-A4E3-79E5B8E8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8113-7365-4931-AAF6-A7F9E4B6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0039-0018-44DD-907E-2EA8BB64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A9B-5137-43CE-BE25-ABB16956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CF41-160A-451E-8EA3-917DE189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12C-EC71-4239-B48E-C6B1CE77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9D3-0C4E-45DC-9ECA-58FA759A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A92-1739-498F-B74F-4ABDA0C4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946-739A-400D-8FB9-FA9F474E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0DF9-56A8-4FE1-B8AA-5CD4A4693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 Clase 6nh (602)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20 de marzo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991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50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t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 ¿Cuántos años tie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¿Tienes una familia grande o pequeñ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 ¿Cuántos hermanos tie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¿Tienen Uds. un perro o un ga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4343400" y="4495680"/>
            <a:ext cx="2124000" cy="1560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76320" y="1208160"/>
            <a:ext cx="2228760" cy="191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3505320" y="1295280"/>
            <a:ext cx="172224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4"/>
          <a:stretch/>
        </p:blipFill>
        <p:spPr>
          <a:xfrm>
            <a:off x="6629400" y="1295280"/>
            <a:ext cx="1924200" cy="189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5"/>
          <a:stretch/>
        </p:blipFill>
        <p:spPr>
          <a:xfrm>
            <a:off x="152280" y="4038480"/>
            <a:ext cx="2171880" cy="210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6"/>
          <a:stretch/>
        </p:blipFill>
        <p:spPr>
          <a:xfrm>
            <a:off x="6477120" y="4419720"/>
            <a:ext cx="2590560" cy="172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7"/>
          <a:stretch/>
        </p:blipFill>
        <p:spPr>
          <a:xfrm>
            <a:off x="2666880" y="4343400"/>
            <a:ext cx="1436760" cy="1523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154440" y="3062160"/>
            <a:ext cx="19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ontent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464400" y="3519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Ale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3804120" y="313848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r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6708240" y="321480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nojad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361080" y="6186600"/>
            <a:ext cx="188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Nervios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2419200" y="580536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ranquil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4628520" y="6033960"/>
            <a:ext cx="18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nferm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6838200" y="618660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ansad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361960" cy="1841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5715000" y="6858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990720" y="2971800"/>
            <a:ext cx="4267080" cy="3417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4"/>
          <a:stretch/>
        </p:blipFill>
        <p:spPr>
          <a:xfrm>
            <a:off x="6400800" y="3657600"/>
            <a:ext cx="2590920" cy="2500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230760" y="1981080"/>
            <a:ext cx="19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storn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snee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 flipH="1" flipV="1">
            <a:off x="5410080" y="762120"/>
            <a:ext cx="91440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1"/>
          <p:cNvSpPr/>
          <p:nvPr/>
        </p:nvSpPr>
        <p:spPr>
          <a:xfrm flipH="1" flipV="1">
            <a:off x="5105160" y="213336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3614400" y="0"/>
            <a:ext cx="21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Tener fie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have a fe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3406680" y="914400"/>
            <a:ext cx="284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Tener calen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have a tempera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314160" y="1644480"/>
            <a:ext cx="1942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scalofrí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hi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V="1">
            <a:off x="3200400" y="3200400"/>
            <a:ext cx="914400" cy="38088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6555600" y="304812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La gr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he F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7"/>
          <p:cNvSpPr/>
          <p:nvPr/>
        </p:nvSpPr>
        <p:spPr>
          <a:xfrm flipH="1" flipV="1">
            <a:off x="1523880" y="4114800"/>
            <a:ext cx="9144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132840" y="342900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Resfr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231120" y="3962520"/>
            <a:ext cx="1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ata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a c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1752480" y="5867280"/>
            <a:ext cx="26672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Guardar c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stay in b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>
            <a:off x="4343400" y="5410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4041000" y="289548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Arial"/>
              </a:rPr>
              <a:t>c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4879440" y="518148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Pañu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4879080" y="571500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Kleen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iss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5"/>
          <p:cNvSpPr/>
          <p:nvPr/>
        </p:nvSpPr>
        <p:spPr>
          <a:xfrm>
            <a:off x="6759000" y="5653080"/>
            <a:ext cx="17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cou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6932880" y="6033960"/>
            <a:ext cx="13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cou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150840" y="2604960"/>
            <a:ext cx="31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stornud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a snee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1714320" cy="2676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685800" y="4038480"/>
            <a:ext cx="2495520" cy="1838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4"/>
          <a:stretch/>
        </p:blipFill>
        <p:spPr>
          <a:xfrm>
            <a:off x="4114800" y="3581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5"/>
          <a:stretch/>
        </p:blipFill>
        <p:spPr>
          <a:xfrm>
            <a:off x="6781680" y="3505320"/>
            <a:ext cx="182088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536400" y="274320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Dolor de garga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5319360" y="2909880"/>
            <a:ext cx="32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Dolor de estoma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499320" y="5958000"/>
            <a:ext cx="27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Dolor de cab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3711960" y="5334120"/>
            <a:ext cx="2741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star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buen h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be in a good m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6474600" y="5226120"/>
            <a:ext cx="259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star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mal h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be in a bad m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labr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2-43; en voz a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4 (1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4 (1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57200" y="3505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0:06:20Z</dcterms:created>
  <dc:creator>Helen Zumaeta</dc:creator>
  <dc:description/>
  <dc:language>en-US</dc:language>
  <cp:lastModifiedBy>Helen Zumaeta</cp:lastModifiedBy>
  <dcterms:modified xsi:type="dcterms:W3CDTF">2013-03-20T17:04:21Z</dcterms:modified>
  <cp:revision>5</cp:revision>
  <dc:subject/>
  <dc:title>Me llamo __________ Clase 7 IM La fecha es el 7 de abril del 2011</dc:title>
</cp:coreProperties>
</file>